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427-9898-41D8-9FA5-D0E3D9E5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5C2C-1409-488C-AD76-05F499D4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1F9-9DDD-4339-B24A-D2579FE8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2F21-6D27-4CA3-AF59-1689A9D6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F01-0020-46FF-885E-4C76D7DB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80C-5D3E-41F8-ABAE-4296ECA5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D86-45A8-4116-88C0-FC4127C6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E6B-0ED1-42BB-9A3B-9D26412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062B-BE54-4036-852C-9C6B4141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DC1-BB93-44FA-8B76-D5C6F36B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9DF-62E3-48D4-ABB1-03FF0A95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0B6-5DAF-4A7A-A13F-D8A831B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212-6BBC-43EE-A960-939B6E038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UDFS01/SSSTAFF/ahart/Level%203/Lektion%206/der%20ganze%20k&#246;rper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56000" cy="36972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533520" y="2133720"/>
            <a:ext cx="45720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Ob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der Philipp heute stil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ohl bei Tische sitzen will?"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lso sprach in ernstem T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er Papa zu seinem Sohn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Mutter blickte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tu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ganzen Tisch herum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och der Philipp hörte nich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as zu ihm der Vater sprich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gauk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chaukel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rapp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appel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Stuhle hin und her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"Philipp,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das mißfällt mir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r 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52280" y="5288040"/>
            <a:ext cx="3353040" cy="15541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licken, blickte, hat geblickt – to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 – wh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mm – dumb/in si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ukelt - flutt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aukelt - r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ppelt - clo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ppelt – fidge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 mißfällt mir – I disappr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867280" y="228600"/>
            <a:ext cx="3124440" cy="21733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5638680" y="2286000"/>
            <a:ext cx="4572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t, ihr lieben Kinder, seht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ie's dem Philipp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weiter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geht!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Oben steht es auf dem Bild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eht! Er schaukelt gar zu wild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is der Stuhl nach hinten fäll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 ist nichts mehr, was ih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äl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ach dem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ischtuch greif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er, schrei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och was hilfts?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u gleicher Zei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Falle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Teller, Flasch' 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Brot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Vater ist in groß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Mutter blicket stumm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m ganzen Tisch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erum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4876920" y="4902120"/>
            <a:ext cx="3429000" cy="2012040"/>
          </a:xfrm>
          <a:prstGeom prst="rect">
            <a:avLst/>
          </a:prstGeom>
          <a:noFill/>
          <a:ln w="7632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iter – fur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ält – 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ischtuch – table cl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ift – gr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u gleicher Zeit – at the same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ller – 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asch’ – bott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– ne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rum - a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2569680" y="0"/>
            <a:ext cx="347724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e Geschichte vom Zappel-Phili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762120" y="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Nu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ist der Philipp ganz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versteck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er Tisch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ist abgedeckt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Was der Vater essen wollt'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ten auf de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Erde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rollt;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ppe, Brot und alle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Bisse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lles ist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herabgerissen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400"/>
            </a:b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Suppenschüssel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ist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entzwei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Und die Eltern stehn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dabei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eide sind gar </a:t>
            </a:r>
            <a:r>
              <a:rPr b="1" i="1" lang="de-DE" sz="1400" spc="-1" strike="noStrike">
                <a:solidFill>
                  <a:srgbClr val="000000"/>
                </a:solidFill>
                <a:latin typeface="Calibri"/>
              </a:rPr>
              <a:t>zornig</a:t>
            </a: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 sehr,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Haben nichts zu essen meh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0" y="2286000"/>
            <a:ext cx="2438280" cy="22251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nun – 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versteckt - hidde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st abgedeckt – uncovere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auf der Erde - eart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Bissen – morsels of food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ist herabgerissen – torn apar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Suppenschüssel- soup bo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entzwei – in tw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dabei - nearby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alibri"/>
              </a:rPr>
              <a:t>zornig – irate/wro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3124080" cy="2528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8"/>
          <p:cNvSpPr/>
          <p:nvPr/>
        </p:nvSpPr>
        <p:spPr>
          <a:xfrm>
            <a:off x="4267080" y="152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usammenfassung/Mor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3278520" y="228600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3888000" y="3581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4421520" y="51055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fgab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4"/>
          <p:cNvSpPr/>
          <p:nvPr/>
        </p:nvSpPr>
        <p:spPr>
          <a:xfrm>
            <a:off x="228600" y="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1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lips Eltern sind zornig, weil Phillip nicht still sitzen kann und hat den Tisch abgedeckt.  Was mach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dass deine Eltern zornig mach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eine Eltern sind zornig, wenn (pusher)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28600" y="2057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2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illip hat sich wehgetan (hurt himself).  Was hat er sich verletzt?  (Das ist Phatasie).  Du musst 3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Körperteil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wähnen (men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04a7b"/>
                </a:solidFill>
                <a:latin typeface="Baskerville Old Face"/>
              </a:rPr>
              <a:t>Phillip hat sich (den/die/das) ________ verl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04920" y="4343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fgabe 3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einem Leben hast du dich bestimmt (certainly) verletzt.  Was hast du dir verletzt? Du musst 3 Körperteile erwähnen (mention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15968"/>
                </a:solidFill>
                <a:latin typeface="Baskerville Old Face"/>
              </a:rPr>
              <a:t>Ich habe mir (den/die/das) _______________ verletz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15:37:15Z</dcterms:created>
  <dc:creator>tmsadmin</dc:creator>
  <dc:description/>
  <dc:language>en-US</dc:language>
  <cp:lastModifiedBy>tmsadmin</cp:lastModifiedBy>
  <dcterms:modified xsi:type="dcterms:W3CDTF">2014-03-12T14:56:41Z</dcterms:modified>
  <cp:revision>25</cp:revision>
  <dc:subject/>
  <dc:title>Slide 1</dc:title>
</cp:coreProperties>
</file>